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886-D949-4B7C-9EC8-49CDFFE1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783-9B57-4F98-A6FC-F913C6B4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389-0FAC-483F-80E7-93875743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241-D050-44EC-A969-88E71501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F130-E067-4DAC-AADD-C426CE9E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B82F-8766-42B8-BF1B-E19DCD28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B6C3-1CD8-4A90-8FD4-7D8E6B87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7E04-C7D4-4BCD-A03D-6EBDD58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40B6-961E-463F-AD75-D939CD2F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1FD5-C967-464C-A255-8A2ACEBF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A03E-AFD9-4E43-BDDA-94376C6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30D-8BF4-48D4-ABD8-112CDB3E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B810-688F-4732-B837-F3D2802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9483-C60B-4103-9849-33EDC5F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A3D0-F4F7-4295-A9E8-7758F42C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6C99-E153-4C7E-A26E-2E8CBBF0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5194-85A7-4C4E-A4BF-6A635594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1AE-F043-49D6-BC65-483E9305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194-D917-48BF-9DEB-B6C6705C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B94-679B-4030-B805-DD7F677B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3B6-D7DC-4A32-A91F-09A7DD2A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614-465C-4F13-A02B-D1A584F5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1D6-7BDB-4BE6-B671-5CFEF15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7E9-6A30-48CC-ACB1-FA5DB1F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8977-3308-4C68-A42F-1EADABE851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1E9C-0657-416F-9B9A-AC3C33CEA31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ipartreview.com/_gallery/_LG/5815440.jpg&amp;imgrefurl=http://www.clipartreview.com/_gallery/_pages/5815440.html&amp;h=244&amp;w=350&amp;sz=25&amp;tbnid=a0lq1wDv0H0J:&amp;tbnh=80&amp;tbnw=116&amp;hl=en&amp;start=24&amp;prev=/images%3Fq%3Dlunch%2Band%2Bclipart%26start%3D20%26svnum%3D10%26hl%3Den%26lr%3Dlang_en%7Clang_es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ienda.com/images/pix_paella.jpg&amp;imgrefurl=http://www.tienda.com/food/paella.html&amp;h=172&amp;w=220&amp;sz=48&amp;tbnid=709lojorP3oJ:&amp;tbnh=79&amp;tbnw=102&amp;hl=en&amp;start=8&amp;prev=/images%3Fq%3Dpaella%26svnum%3D10%26hl%3Den%26lr%3Dlang_en%7Clang_es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abcasiapacific.com/englishbites/img4/4ep067_rolls.gif&amp;imgrefurl=http://abcasiapacific.com/englishbites/stories/s1402129.htm&amp;h=144&amp;w=180&amp;sz=11&amp;tbnid=xn5Pg5jUgCQJ:&amp;tbnh=76&amp;tbnw=96&amp;hl=en&amp;start=25&amp;prev=/images%3Fq%3Dbread%2Band%2Broll%26start%3D20%26svnum%3D10%26hl%3Den%26lr%3Dlang_en%7Clang_es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perso.wanadoo.fr/patzcuaro/mx/09/fotos/sopa%2520tarasca%252001.jpg&amp;imgrefurl=http://perso.wanadoo.fr/patzcuaro/mx/09/mx/09gast29.htm&amp;h=259&amp;w=370&amp;sz=17&amp;tbnid=Om4CA7eY4UYJ:&amp;tbnh=82&amp;tbnw=118&amp;hl=en&amp;start=11&amp;prev=/images%3Fq%3Dsopa%26svnum%3D10%26hl%3Den%26lr%3Dlang_en%7Clang_es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14"/>
                </a:solidFill>
                <a:latin typeface="Comic Sans MS"/>
              </a:rPr>
              <a:t>LAS COMID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13" descr="5815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179880"/>
            <a:ext cx="53341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A ENTREVIS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PERSONA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¿A qué hora comes  el 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almuerzo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ERSONA </a:t>
            </a:r>
            <a:r>
              <a:rPr b="1" lang="es-E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:  A la una por la tarde. (1pm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B: 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¿A qué hora comes el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almuerzo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PERSONA</a:t>
            </a:r>
            <a:r>
              <a:rPr b="1" lang="es-ES" sz="3200" spc="-1" strike="noStrike">
                <a:solidFill>
                  <a:srgbClr val="cc9900"/>
                </a:solidFill>
                <a:latin typeface="Arial"/>
              </a:rPr>
              <a:t> A: </a:t>
            </a:r>
            <a:r>
              <a:rPr b="0" lang="es-ES" sz="3200" spc="-1" strike="noStrike">
                <a:solidFill>
                  <a:srgbClr val="cc9900"/>
                </a:solidFill>
                <a:latin typeface="Arial"/>
              </a:rPr>
              <a:t>A las dos por la tarde. (2pm)</a:t>
            </a:r>
            <a:r>
              <a:rPr b="1" lang="es-ES" sz="3200" spc="-1" strike="noStrike">
                <a:solidFill>
                  <a:srgbClr val="cc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292929"/>
                </a:solidFill>
                <a:latin typeface="Comic Sans MS"/>
              </a:rPr>
              <a:t>#1: 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la gente come el almuerzo entre las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dos y cuatro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 por la tarde (2-4pm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292929"/>
                </a:solidFill>
                <a:latin typeface="Comic Sans MS"/>
              </a:rPr>
              <a:t>#2: 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la gente come la cena a eso de las</a:t>
            </a:r>
            <a:r>
              <a:rPr b="1" i="1" lang="es-AR" sz="36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diez 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por la noche (10pm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Comic Sans MS"/>
              </a:rPr>
              <a:t>#3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Comic Sans MS"/>
              </a:rPr>
              <a:t>la gente come 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mucho</a:t>
            </a:r>
            <a:r>
              <a:rPr b="1" lang="en-US" sz="3600" spc="-1" strike="noStrike">
                <a:solidFill>
                  <a:srgbClr val="292929"/>
                </a:solidFill>
                <a:latin typeface="Comic Sans MS"/>
              </a:rPr>
              <a:t> para el almuerzo.  Este es un almuerzo tipico en Espa</a:t>
            </a: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ña</a:t>
            </a:r>
            <a:r>
              <a:rPr b="1" lang="en-US" sz="3600" spc="-1" strike="noStrike">
                <a:solidFill>
                  <a:srgbClr val="292929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5" descr="pix_pael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457200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4ep067_ro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720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sopa%2520tarasca%2520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09680" y="4572000"/>
            <a:ext cx="2210040" cy="174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foto_arroz_con_leche"/>
          <p:cNvPicPr/>
          <p:nvPr/>
        </p:nvPicPr>
        <p:blipFill>
          <a:blip r:embed="rId7"/>
          <a:stretch/>
        </p:blipFill>
        <p:spPr>
          <a:xfrm>
            <a:off x="7010280" y="4572000"/>
            <a:ext cx="21337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292929"/>
                </a:solidFill>
                <a:latin typeface="Comic Sans MS"/>
              </a:rPr>
              <a:t>#4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el almuerzo es la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comida principal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. La gente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se visita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 durante el almuerzo y come </a:t>
            </a:r>
            <a:r>
              <a:rPr b="1" i="1" lang="es-AR" sz="3600" spc="-1" strike="noStrike">
                <a:solidFill>
                  <a:srgbClr val="cc9900"/>
                </a:solidFill>
                <a:latin typeface="Comic Sans MS"/>
              </a:rPr>
              <a:t>mucho</a:t>
            </a:r>
            <a:r>
              <a:rPr b="1" lang="es-AR" sz="3600" spc="-1" strike="noStrike">
                <a:solidFill>
                  <a:srgbClr val="292929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spaña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92929"/>
                </a:solidFill>
                <a:latin typeface="Comic Sans MS"/>
              </a:rPr>
              <a:t>#5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la gente come el almuerzo </a:t>
            </a:r>
            <a:r>
              <a:rPr b="1" i="1" lang="es-ES" sz="3600" spc="-1" strike="noStrike">
                <a:solidFill>
                  <a:srgbClr val="cc9900"/>
                </a:solidFill>
                <a:latin typeface="Comic Sans MS"/>
              </a:rPr>
              <a:t>en una hora</a:t>
            </a: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 y a veces más (2,3,4 horas…).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el almuerzo usualmente </a:t>
            </a:r>
            <a:r>
              <a:rPr b="1" i="1" lang="es-ES" sz="3600" spc="-1" strike="noStrike">
                <a:solidFill>
                  <a:srgbClr val="cc9900"/>
                </a:solidFill>
                <a:latin typeface="Comic Sans MS"/>
              </a:rPr>
              <a:t>no</a:t>
            </a:r>
            <a:r>
              <a:rPr b="1" lang="es-ES" sz="3600" spc="-1" strike="noStrike">
                <a:solidFill>
                  <a:srgbClr val="292929"/>
                </a:solidFill>
                <a:latin typeface="Comic Sans MS"/>
              </a:rPr>
              <a:t> es menos de una hora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0:11:26Z</dcterms:created>
  <dc:creator>Sara White</dc:creator>
  <dc:description/>
  <dc:language>en-US</dc:language>
  <cp:lastModifiedBy>Karen Murano</cp:lastModifiedBy>
  <dcterms:modified xsi:type="dcterms:W3CDTF">2011-09-23T02:31:16Z</dcterms:modified>
  <cp:revision>28</cp:revision>
  <dc:subject/>
  <dc:title>EL ALMUERZO</dc:title>
</cp:coreProperties>
</file>